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516-A6F3-4205-8827-9CA0D22A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C1C-8ED9-4EAD-8B6B-427246F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7FC-6D34-493C-A573-73776D3F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8CB-B093-4923-B3C6-35A666F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646-79C9-450A-9B48-4DF4367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408-4BE5-4A9B-BA39-2B69640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318-A2EB-4D5A-9CBE-73E54826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BA3-2CB5-4E13-9A74-95DB633B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C9C-6439-42BB-846F-BC45D40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0AF-58C6-437F-AAFB-1C0729D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120-0A98-4ACB-837E-C26AD65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CBD-9677-4475-BA01-28128E83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B73-CF58-48E0-9AC8-9D40AAAA4B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RNDONE.WAV" TargetMode="External"/><Relationship Id="rId4" Type="http://schemas.microsoft.com/office/2007/relationships/media" Target="file:///tmp/home/.config/libreoffice/4/user/gallery/RNDONE.WAV" TargetMode="External"/><Relationship Id="rId5" Type="http://schemas.openxmlformats.org/officeDocument/2006/relationships/image" Target="../media/image4.png"/><Relationship Id="rId6" Type="http://schemas.openxmlformats.org/officeDocument/2006/relationships/audio" Target="file:///tmp/home/.config/libreoffice/4/user/gallery/FADEAPPL.WAV" TargetMode="External"/><Relationship Id="rId7" Type="http://schemas.microsoft.com/office/2007/relationships/media" Target="file:///tmp/home/.config/libreoffice/4/user/gallery/FADEAPPL.WAV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ILLAPIR.WAV" TargetMode="External"/><Relationship Id="rId3" Type="http://schemas.microsoft.com/office/2007/relationships/media" Target="file:///tmp/home/.config/libreoffice/4/user/gallery/WILLAPIR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62.xml"/><Relationship Id="rId27" Type="http://schemas.openxmlformats.org/officeDocument/2006/relationships/slide" Target="slide64.xml"/><Relationship Id="rId28" Type="http://schemas.openxmlformats.org/officeDocument/2006/relationships/slide" Target="slide66.xml"/><Relationship Id="rId29" Type="http://schemas.openxmlformats.org/officeDocument/2006/relationships/slide" Target="slide68.xml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CDC-791C-4623-BF6B-A978FF458D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6002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the cell membran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B5A-66BA-48C9-8C39-4354B9DB0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219320"/>
            <a:ext cx="693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auses the concentration of molecules to be the same throughout a spa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928-8B32-4EDE-B4DE-A5298D8D15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752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diffus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A73-B261-4D84-A53D-90770F29A9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060560"/>
            <a:ext cx="693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te that exists whenever molecular concentration is the same throughout a spa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EED-0A5D-4896-A743-79D7CD3307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equilibrium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BC0-BB38-4097-96E0-91C612F0C5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279440"/>
            <a:ext cx="6476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en the concentration of solutes inside &amp; outside the cells is equ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F32-5797-4035-A7DF-2B76B6202F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676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iso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68F-A67B-4969-98BC-EB901E585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1219320"/>
            <a:ext cx="693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Organelle in paramecia that pumps out excess wat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FEB-339E-47DA-BFB8-1B4EB44730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1905120"/>
            <a:ext cx="57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a contractile vacuol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038-392A-4A61-BBBD-5C55669C32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4600" y="22860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Universal Solven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904-9776-4B82-828F-098091ACCB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26668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328-C51D-464D-A141-34150D3ED77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05740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water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446-3802-4D52-9174-1C2E4A99B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6520" y="1281240"/>
            <a:ext cx="5790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perty that makes water such a good solven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F80-4B1A-4230-B681-1A34004624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13372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olarit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8ED-FE3A-484F-8E15-BCAB582F5C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1219320"/>
            <a:ext cx="7238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Solute concentration that causes water to move into the cel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531-82D1-4D40-BB61-A271A7AB04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7524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o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F86-A800-456D-A116-AC206F7C82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137160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irection water moves in 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89D-AEA2-4370-B1B0-60541B5A2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4479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down the concentration gradient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4CC-7267-4B1A-AA14-C4DF5F61C7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9144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Prefix that refers to a high solute concentration &amp; low water concentration outside the c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79B-1D9A-4A6B-A185-5B23A77202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er-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FFD-6D07-4AFC-9174-5135E3D9E2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914400"/>
            <a:ext cx="6934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Facilitated diffusion is another example of this type of transpo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894-990C-43F4-AACA-1E3C834A4E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2860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Osmosi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68A-79BC-49B0-A8B7-FF8AF06F14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assiv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EAA-DF8B-4A43-B1F3-15ECBC48A7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1600200"/>
            <a:ext cx="63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Proteins that aid facilitated diffusio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F8B-4D2F-412F-B324-F1D8D32847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6765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carrier protein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CC-127A-4912-A66C-0A21251E9E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914400"/>
            <a:ext cx="7010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Direction across the cell membrane that carrier proteins allow movemen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E15-ABBF-4E0F-B772-035E74FC06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52388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igher concentration to lower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B01-2FCE-4464-9127-03D1751D82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447920"/>
            <a:ext cx="701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his happens to a carrier molecule when it binds with the molecule it’s mov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893-F1A0-439C-90C0-98C63C911F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82880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change shap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BB5-16BD-4ED7-8724-87F8E47BBD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990720"/>
            <a:ext cx="6400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ype of molecules that move by facilitated diffusi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914-77BC-4061-91DF-B2D4FB2BAA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447920"/>
            <a:ext cx="7315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What are large, insoluble molecule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CC8-31B0-457C-82EB-6D2157C069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16002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Simplest type of 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EF6-FEF2-428C-8378-914FBAB995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213372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Facilitated Diffusio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C5B-5D7A-42B6-B522-820DE2A6883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6765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diffusion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214-4122-4594-BA15-64E3734771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9144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irection molecules diffuse across a cell membran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A94-C70C-43EF-87B5-81A5D364C5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52388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igh to low concentrat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3E3-72ED-42CC-B253-4B33B86C18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9528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ater movement across a cell membran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4B5-2F78-4469-AE00-97241FBE5C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75248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osmosis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38D-23BA-4636-B679-749153F557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1066680"/>
            <a:ext cx="64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Point where molecules continue to move without a concentration gradi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E55-5A28-48A9-8FC2-EC06285491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447920"/>
            <a:ext cx="678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equilibrium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B6E-47A4-4F31-AB1D-A6EF8E8DB15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99072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ater pressure exerted against plant cell wall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8CC-CFFB-416E-836D-AF5D588044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60020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urgor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79E-7963-4230-BB33-8CA04119D67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185840"/>
            <a:ext cx="655308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Required by cells to move materials by active transpo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296-B609-489E-9169-F0F60D9A439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220968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7C0-6CC4-4AE7-8C5E-C4D7DEC26D7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14479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energ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825-C6C6-4A7E-9B9D-29FCCC4D27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600200"/>
            <a:ext cx="7467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irection of Movement across a membrane during active transp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414-87AA-4399-833F-918349E22F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low to high concentrat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79B-CAAD-49CC-A2AC-C427E1137B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17524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ct as cell membrane “pumps”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82F-B8F1-43CD-931D-6D5EA8ABC79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4479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What are carrier protein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240-E07D-419A-BFAD-E17B80030D8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600200"/>
            <a:ext cx="716292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Membrane pumping system found in animal cell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ED2-7A25-4840-92E2-3BCBEF0DD2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388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the sodium-potassium pump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3B3-4F2F-4539-9BE9-D5EE62EA87D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765-AC34-4A18-9832-C922263B124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295280"/>
            <a:ext cx="7543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cess where cells “drink” droplets of liquid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5A6-626E-488E-AD05-B0C0AA0BD7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52388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inocytosi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FAA-7580-40CC-8210-C082EAC4E7F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981080"/>
            <a:ext cx="556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438280"/>
            <a:ext cx="510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Active Transpor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5F8-61BA-4394-BAE7-30EF7B9FE8A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838080"/>
            <a:ext cx="6400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Condition of the cytosol if the outside of the cell is hypotoni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72A-78E1-476A-9C89-CA30DE3D1CC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21337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er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30D-AA30-4D64-82EF-07E8579DB91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990720"/>
            <a:ext cx="7010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 multicellular organism’s response to being in a hypotonic solu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FC4-AA77-453B-8290-326EB569CF4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7524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umping out solute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073-3241-41AF-AE5B-2DD71431C51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95280" y="1143000"/>
            <a:ext cx="632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irection of water movement when the solute concentration outside the cell is lower than insi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949-6BDE-42A9-A789-1F5E55C44A7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7524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water moving into the cell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800-136E-4904-872C-E7E4B3C7129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1066680"/>
            <a:ext cx="7010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Molecules soluble in this can diffuse through the cell membran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DAB-53C5-4CCD-94A5-0C86CE8D3CC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7524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lipid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E25-EAC3-452D-82F7-E12AA3C7E5F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52388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ondition caused whenever plant cells lose turgor pressure and wil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624-6BA2-4EF5-8C6A-DD97D8D16D0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75248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lasmolysi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87E-53E4-4A55-B18F-8FBE5793E50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38280" y="259092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Solution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8EA-ED22-4BBD-B398-9FAA28DD9EA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057400" y="2286000"/>
            <a:ext cx="4724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13A-83E3-4502-AEB0-8D289B1FFDE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2819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EB3-2CC2-4C7E-BEF6-A6B0ACC3316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28800" y="220968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Kinetic energy of molecu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2E3-FD42-4988-9B66-C3FDAB9AEAC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432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60020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is the energy for passive transport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D53-B7E0-4785-B947-9E8CD42E455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5DB5-7D8C-4B4E-9892-22E8FDF5A1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92880" y="1295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92880" y="2438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92880" y="3581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92880" y="4724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92880" y="5867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676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62612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1676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61676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161676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140640" y="127944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140640" y="2438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131280" y="356544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14064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314064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65516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46551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466488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466488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66488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19812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61887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619812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619812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198840" y="5864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7722720" y="1292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77223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71264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7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72236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772236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7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Homeost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80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smo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Facilitated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Diff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049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assive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04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Active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38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9144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Helps an organism maintain  homeostasis by controlling what enters or leaves the c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47B-1104-41D8-8937-694333B40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rrogers</cp:lastModifiedBy>
  <dcterms:modified xsi:type="dcterms:W3CDTF">2008-02-19T16:32:48Z</dcterms:modified>
  <cp:revision>50</cp:revision>
  <dc:subject/>
  <dc:title>No Slide Title</dc:title>
</cp:coreProperties>
</file>